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AE3-67E5-4077-A1DC-595B717E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ED6-4A12-406F-A02E-D3E2FCB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78D-405D-418F-B335-563CADA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A9F-DC33-4D41-9398-900084CD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E98-EA38-477F-BA6E-C1E714C7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9D0-B01A-428E-9425-5EA38846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681-0CB0-487E-A431-154868C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A08-2B87-4DE9-A5E6-9A8E3063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DC9-D170-49C9-B9E5-B9DBDE8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126-7A1B-4528-9C04-7D76F683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290-065B-425C-A155-04FD034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C43-BEB7-482C-B054-DB2CFBD9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817-DA52-418B-8302-7A6E1B63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rrotmuseum.co.uk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cle of a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mous sayings in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what you say; it’s how you sa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what you know; it’s what you can pr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aking an argument, or a thesis, you must support that argument with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evidence must be valid and useful and bia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get this evidence fro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s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person on the str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ource of the evidence is invalid, it is not worth 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trying to prove that Coca-Cola i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do your research on a website dedicated to carr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rrotmuseum.co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here will be for carrots, and not for the harmful side effects, or delicious refreshment that is Coca-C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c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vidence that is useful and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have learned, Bias is the reasons that affect the opinion of a person, company or thing towards an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) Starbucks thinks Starbucks is the gre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if you are looking for evidence that states Starbucks coffee is a popular coffee bar, do not get this information from the CEO of Starbu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arching for evidence in Info-text articles, remember to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bi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val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no to any of these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y would you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the same principal can be applied to your responses to literature in the provinci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ertain that the evidence is useful to your argument, not confu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2:06:59Z</dcterms:created>
  <dc:creator>nmt</dc:creator>
  <dc:description/>
  <dc:language>en-US</dc:language>
  <cp:lastModifiedBy>T</cp:lastModifiedBy>
  <dcterms:modified xsi:type="dcterms:W3CDTF">2012-02-22T01:27:35Z</dcterms:modified>
  <cp:revision>3</cp:revision>
  <dc:subject/>
  <dc:title>Evidence</dc:title>
</cp:coreProperties>
</file>